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4BE-991F-4B6A-9CC3-2F492520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F77E-2CE3-40E0-AC18-90ECF18D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B461-3579-4899-AAC6-3316965A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413-BBE2-4C91-8C74-7281A3B6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79A-4422-4BDB-91B2-9D9B9454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405A-236B-4AC2-A0ED-07C5AEED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FBC-69D5-4EC2-AA6C-80E0A042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8BF-054E-4632-A151-43615943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761D-82DE-4D45-8FA1-522ECC83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7B42-ADC2-474A-861E-12CAE197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253-8079-46A0-A1CD-96CE274A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6736-E56E-46E1-AE4B-E14D0276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9AA6-7CB2-4BF5-88B2-D2A49DF90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013600" cy="2044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2120" y="27795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43578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7964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110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105520" y="1600200"/>
            <a:ext cx="32763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209680"/>
            <a:ext cx="8380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22860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2209680"/>
            <a:ext cx="7621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4762440" cy="559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7560" y="6462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79646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35516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229600" cy="603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29200" y="1828800"/>
            <a:ext cx="3200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2133720"/>
            <a:ext cx="7621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21337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96080" y="2133720"/>
            <a:ext cx="8384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5233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23:09:38Z</dcterms:created>
  <dc:creator>Graham</dc:creator>
  <dc:description/>
  <dc:language>en-US</dc:language>
  <cp:lastModifiedBy>Graham</cp:lastModifiedBy>
  <dcterms:modified xsi:type="dcterms:W3CDTF">2011-10-22T23:09:42Z</dcterms:modified>
  <cp:revision>1</cp:revision>
  <dc:subject/>
  <dc:title>Slide 1</dc:title>
</cp:coreProperties>
</file>